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07D-E6C5-4E07-A1FF-F4AE1E00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888-E9B1-4755-8BC5-EF80104B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B69C4-97C2-4CEE-AB04-AE747840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C34DC-A96F-4AEA-A2EA-AF03F124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D6587-597E-46C6-89A7-2B441CDE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D012F-5EEE-4D4A-BA39-30D3D896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8E870-71D3-4A21-BB2A-0EF6CA53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5CE70-A8FB-4642-A755-24C544D3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D867E-0D60-48C6-A301-8C09ED0A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D3DF2-3756-4274-9775-3C2A2064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FBBD3-DDE8-4A5B-AE8E-2DD3917A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4D26B-6580-45F6-9A95-CDE3939F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C20-A6D1-42C2-96B6-575E2680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D50E2-9259-4352-A17E-E3DA3004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00587-3AF3-42EA-9708-EC3817A7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B0241-551C-4E9F-86B5-7F1A5BE3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B2176-0077-42CD-AFCE-102FE8CF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2D636-B08D-41FF-8627-E7B575CF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0BD7B-A9A1-4D25-9CD9-E5FA8F9B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ADB43-355E-4F5B-AD3C-FE33AA46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44B6E-1577-4E5F-B91B-7EA940F3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23E73-67A9-41AC-AA89-798CFA35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5042A-977D-4EA8-ACDA-BAA5A00E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4BE-AA1C-41DD-AB37-B2FDC7F4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85381-481A-4CC6-BDF0-378F5C9C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AA166-EDAC-4ADD-95B8-EB9C91C0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03DA7-A01B-431A-9ECA-255ED7CD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E792F-55FA-48F8-A424-660930AB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6F667-2732-45E3-A18A-D6B2B5D7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72B39-95CF-49FD-B62C-3FEE201E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99C0E-0A10-4094-B875-B77B98C1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16FEA-CF1E-4858-805C-2AAF9670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59E36-B61E-45D0-815F-1C262269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E1C9D-5BB5-4EF5-B10B-E3EF9F76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2484-7907-4B93-BDDC-0B85A1BD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9FD35-0899-4FE0-A9D5-B16E782D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28F2C-63CD-44E9-8DBF-8EA6DB48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271DE-F10F-4935-8CA7-DE9B464A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FE846-604C-484B-BDB1-348A5F9C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79E95-CF37-42E0-BE77-0AC41FC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3B703-79A1-416A-809E-0DFC972D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7A8CD-EF46-4636-AE33-F217CE97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D080A-AC96-445D-B737-2E70573B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3B19B-0C5F-44A0-BE88-8949752A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4630C-4A63-426E-A698-E29B2469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C89F-5D6F-4958-8DFE-8B57CB29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9FAFA-6405-4AC4-A4D5-8404CA29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CE930-BC10-46A1-B768-B9C77B1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86757-D788-42AB-80C0-1BF55AE2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6576E-0171-4A2C-9CEE-0B72780C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15737-4639-4023-9325-E8FAAB46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77181-45D5-4483-83F0-A54A9AA1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A3BF7-75CF-45DA-8A38-6E0C7D9F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49C82-0050-4536-9F71-D3650F6B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C698B-774F-4888-83C1-A537DB0F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CE09E-EBAE-45D9-9977-775C7D47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FE9E-9CDA-4F8E-9458-F3031ECF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E872B-E086-4F4A-982D-EE61CC1D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CFE3C-4C6B-4CA5-8259-9217D88B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84B92-DA17-43D1-86B1-654EBF7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59968-AD67-4F48-9FB0-768B7A6B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6BCC5-B17E-4480-99C0-4DC6D670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3DE1B-3B39-4E81-B2F7-46F558C4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45895-9294-4DE0-8B09-84F49CEA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B5ABE-EF4B-46AC-B7A6-BE1A59F3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08623-EF60-49C9-A04A-C08B602B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08562-18A7-4BEF-8AB6-6A97BBCB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D201-FC53-4FA2-A02A-23E51ACD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6EF55-E46E-4243-A6C2-1C5DEC6D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78F48-26AF-44AE-A4CB-FB68CE7B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5D28E-14A3-495D-8466-D14BE566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32FF4-CD65-4D51-9B3D-868F1821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77CDD-6479-421A-995E-C9769D8F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2E0E4-7E4E-41E2-87D9-6B86A149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5CE98-F2C7-41C2-9858-5759CF25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4AB5A-086C-477C-87B1-BCF8C0AF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242B5-EE76-4B71-AD38-42617115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A6B0E-AF3C-403C-9ADA-3535051C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AC62-0367-4E53-A1CA-ADAA2A74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862EF-7AD1-4FBC-82D7-0BE38463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CC062-4350-4806-9FBB-BB6F7301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02C44-2611-47DC-9D67-FD1D747C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028EB-7E7C-4D52-916A-7427B44F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F5EE8-7468-4BA5-A925-D56E6677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B34B2-4B02-4CC4-BA15-7C46C4F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DB0AE-5DE4-481C-B7CE-3449B20E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9370F-21B7-467D-BF23-2F1EC5F8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45824-5C8C-4E3D-9B52-CD53948D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FF0A7-4EC2-4B3C-AFB8-7024A2C7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682D-18E3-40F9-8A64-C91A3D75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DB563-BADE-42D6-9E28-71CAD745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37ACA-88DA-4798-94A0-B93EDB2E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BDE02-5C55-47CD-A437-FBDA1D9B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A54F55-D1F7-4631-B96C-C5F785F3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B993C8-7453-4DE7-9CF4-53E3EC90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126FB-B6AA-4286-875F-E23AADC5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F3086-BB31-4138-9540-545A9BCA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8381F-24FF-497E-9E82-306A470F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6EDC3-DE90-40A5-99BE-E8A14658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384A2-E3EA-4CBD-AACC-B5106A44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2836-33F1-49BB-9C04-3D79B80A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F3E549-7584-4B17-BDBF-0A1818DD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E4ECF-5B8E-4D02-82BB-254F3358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4DF7F-CDBE-40AF-9344-67F10DB2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761BA-B336-4988-B3B1-FF969AD8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E61090-0CFC-486B-9F72-7DFFD237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FAD34-EE90-4E88-8819-BDBFB152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B12099-B634-40F3-B446-4CBC810E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FBF5F-8217-49F0-8D27-637C7867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8C8E70-F444-41E0-99D5-7A7388DF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442CF-99D6-4523-BE24-C603BD7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646-0F53-4A5B-835C-749415EF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AF38-A180-4E19-944A-B2561BF1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AECD0-144C-4B28-90EE-226CDE57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D19CF-4634-477C-89D1-27C73F27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E7E3B-D978-4F91-8C2A-00AACB20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15D19-EB53-4177-949B-6F3E864B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6ACC5-80AC-4215-B93A-A13ECE4F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222EC-D5D1-43D5-B108-4A8E69E4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C7CB1-2D65-4CFA-B495-1010185B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10574-1B9E-4EB0-80C5-85FD192E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46BCF-9C8B-4682-A6D9-07927E2F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0B0212-9427-437B-9294-E8B3E595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3065-F819-401C-A8D1-D0D6661B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F172EE-B40A-41EB-8DEF-6E4CFE17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9343FE-F43F-43B1-9AB9-21A776E9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A2142-0D72-40BA-8EAC-A62D614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F0D12-C2AD-4B5B-A6B4-259B0DA4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D432F-A5F5-44F0-A333-21EF94FD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AB320-3F12-42A2-863C-ED73CD79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25E61-92A4-4121-9211-E27D53EA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D46FE7-8C65-425F-9C9C-EEDCBD4F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C6B939-C709-47E7-92BE-808BFB1D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661AA6-3298-4D47-AF64-E12A7589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871F-B8B1-46D1-B330-29BC281F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0CC28-1D98-472D-9D73-0B4007DE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BA8FE-1459-4835-8F98-C939D86C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BEE1B-A680-4E79-8484-2934EB04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92E707-C3B9-4B1F-B244-F4483EE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A96A4-543C-4ABF-920D-73465702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F0C84C-01DD-40FB-B96F-E31E98E3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D32C62-EC15-45C7-96F4-6F744AA6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2B514-6DBD-4ED6-8B4B-D838518F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4DADB-0353-441D-B371-ABD95075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49E050-153D-45A8-B760-5256195D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8DCD-674D-4578-811A-45EDF44A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C96369-5DC6-4A0D-A9DF-C6CBDF19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7FC0FF-98EC-4D22-845D-0F4B9773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F19A1-FC4F-4CE6-AFFE-073383B4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351999-F7D8-42EB-A1CD-01C535D2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DACD45-B506-4633-AD83-286FFA3B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37399-1D30-4332-8037-DADC7B2F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486C2D-56E8-4DAF-BA14-59437088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7675B-2D3A-4066-A00E-B8E2334D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3B0AF4-D122-4A7D-B718-2AC67295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AA1166-0F0F-4AB1-8124-2FCDB073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6AA5-0F30-4170-BAAE-A49F5E90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73A90-B781-40AB-9D0F-9C52EDE4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9AA3A-46E9-4944-AFC1-1AC57375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F1F86C-5508-4351-B86A-1D5862E0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6A2D3-3F7F-42D2-BBA7-E6377BD4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B407C-4E5E-4AB0-A1EF-003BBAC9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2BF0C6-B16C-48A1-B524-2266C584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575B4-D9AE-4AF1-A7B7-CB78D672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111F22-C0DE-49D7-9995-927D3FC8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EA4D3B-D3B3-48BA-BA02-FC0E1025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2C7384-E6EB-4AEC-91B4-6DC351B3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9DFA-DAB1-4624-8B7F-D22C6674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16902A-D868-4428-A437-9F0BDED6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1B9D67-BC22-4732-8E59-F6090E94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877A00-C482-4C84-8585-3EFD0164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87F35E-837F-4206-B168-32E749F7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D36C6D-8A4D-4738-A9C8-6D694913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AC7FA-11DB-4E4B-8760-BACEBB05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1FBC88-CA61-418D-9CDD-7EEECD09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46EA88-F718-4068-95C0-C0BBF297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B08F5E-C87A-43AF-8B48-FBCD6B30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665EC8-057F-4DD0-BBEF-45970AE2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6605-C3EC-4F95-8BA9-0A680E3E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BCCF73-D354-4D4A-8770-AC819173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D303E8-3720-47FE-A472-F6B8F7E5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35890C-A5B7-4F58-A3A4-699724E0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EA973F-EFC9-41ED-BAB3-38AD1419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1A8C8B-5ABB-4DF4-A360-24F1963D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10270B-861F-4699-9FF9-079EE011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388297-5CED-4748-BC74-1CB86378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75E3B6-CF5D-4C44-BCC4-0B1B4143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10CC43-F3C3-4A5E-8B90-3BECDE41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E02CD4-443D-4C62-87FD-94137413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8A85-381C-47DC-A88F-B864468B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BB8612-37C1-4208-AAA0-DBB6B25E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103607-D7AA-48D1-9453-83060127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C7C4AC-CC4D-49E1-8A08-4E1490B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550A48-6BB8-43CF-8738-0861A986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658D46-1746-4DF2-A466-496619B9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13E05D-D21E-4D82-993E-8BE94AC2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5C1B66-6BC6-4F6B-85DC-4EB29269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986A3-2CAA-4BDB-BC9D-CC066666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E340-9985-4288-AEB0-D19C8826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C33-DFFB-42B8-B670-79AF7C30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393D-FE39-4879-AC18-CA947B14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1B9C-6E5F-4652-A157-1622126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63CD-8382-41D5-8900-59283931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78A0D-9260-4C54-8C07-089029C4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A4C0-C17B-448D-8EF7-09F14B35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C40C7-87D0-4CFC-9FDE-39898E44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937AA-B46A-4146-A117-4ABAB90E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BEDAA-EC0E-4D14-84C7-835FA112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1301-5095-4C36-B987-A94EFC77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2376-EC57-48A8-AAE4-C50E5608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980-9171-4B5E-849B-418B4440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6F2B3-7BF3-4654-8658-FCAC3041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55A6A-D615-4054-8B2B-91530795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0E47-DB34-4755-920B-3B3892C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8CFEE-A120-4B46-BAD8-18E54DFE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DA3D1-D887-4049-83B2-381FBC3B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62F2-953A-47EF-B839-DEB9C035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CE863-ECAF-4DF8-A95A-58C3CF0E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F5DB5-368B-4AE1-A190-1DBC1E45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B2064-66A7-41A9-93DB-CB2C1414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2A30-3669-42C7-A567-16CAC3E1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FF3-5CD1-4FF9-8DF0-6EBC2408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76034-53CE-4256-A2F5-A6A19D1C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68049-3507-464B-A1F2-616588CE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AA7A5-3F1D-4B6D-98DC-065A8466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8EBA8-7C9A-4246-A829-DFCF63D2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FB460-2EE9-4E81-8307-EA046FDD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1957F-E574-4B8B-ABD5-D8CB38E7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83666-E880-4567-99E8-F3B39AA6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F59CF-FAFF-40A6-B091-D639468A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DDD90-A997-4252-AE15-7158965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EFD72-CDD5-4947-8A70-EF12FAB7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075-1508-4A90-A1CE-4D080B88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C1334-C3FA-45C6-8E9D-1EB9A5E8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3730F-0C05-4173-898B-662ACC89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62F6E-1185-4BB5-9878-010C45F5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C913D-5A2F-4CFC-9EB4-BAAC74A0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F7204-1FAC-4E96-B865-3D3DF00E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15644-6B68-4B8A-83BB-7CF570E9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72CD3-7A67-41A9-AE69-CDE7532C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DEBBC-EB5C-473D-B74B-75FF9611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72D09-1EC3-42C4-A823-BB46D631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F67D1-F99F-424D-8B65-4C35495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CF2-1C71-47FB-A50D-EF500870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4525A-75E0-426B-AE9C-DD5DBDB8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63844-671F-4574-BF3B-35AE8B75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CDF7E-C439-43C4-BFE9-BF4F4FF5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01D40-3E8B-4889-9F39-C90DFC3E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1B184-5FC6-4246-B944-59869A21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217C5-5C02-46A7-AEB5-45847364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848D3-88A9-4BE0-A90B-9E8A4F91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CC352-B4D6-41E9-9903-9983DF95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D1B79-D692-467D-AECC-37A96A47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E399-B6C3-47BA-B527-1CE3C543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9B6-39BB-4CE3-926C-C22223AB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F4CAA-B80F-4343-8FFB-413532F6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598BE-9DB3-44C3-B5AC-BE137899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445C5-1031-4A08-95D5-D8D360CA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76267-4394-43BB-A5EC-50A1A8D3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B81EF-3A2A-436B-8618-16AA8C40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0C58-2428-42E5-9F30-C8967DD2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A93C0-4A12-4A98-AC19-BBAE9E2B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B1E71-23A8-4635-8AFD-3CB10642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33C7B-7F07-4617-B321-75654EBD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24913-F620-441D-89E7-A304B58E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D45-539E-4AAC-9956-781473E1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1C03F-ED08-447E-8C5B-CD15EB88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03797-7E35-4A47-9AF5-441F4A6E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D9666-5D82-4936-A154-50F4303A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AF23C-3E60-4D6A-A97D-7F12E8B0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66267-7A7B-4075-9BBB-9FE0125C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A7EC1-2BE0-4376-84A5-6801B63F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D705E-D54A-43C2-BCDF-0A8B314A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A8B04-6943-432D-86F5-9094C23B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20B1C-697C-4589-8C57-3555104B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6C090-0F17-4707-A129-FED5E4FA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DA38-A58B-4DCC-9613-59CA349D7E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0577-429B-4EE1-A877-3068C6F4C0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6C4A-83CA-4801-8879-4503E0679F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9F22-3F41-401F-8AEC-C4496881D8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0084-1437-4D3C-AF0E-FC21E62F1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AA15-244E-4108-BCF2-DC8060E79F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004C-6FB9-4B4B-9E1A-1F8EC5E95B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7323-C557-4749-849B-328E906F57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0146-ECC1-433C-A5EF-37293B0060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AB87-B59D-47AF-92C7-F4DF4F7A4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E297-4830-49B1-8C17-6D93D584F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C5C-2765-4CAA-AC0F-EECF917C76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DC56-6263-4BA3-90D1-2ED229DC22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8FFB-536E-4D43-9B71-E54A436E4A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88CF-EC4A-4484-BFF4-99EC91F249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D2F3-AA49-4F65-86C2-B75B0AD8E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7658-C806-4943-A150-01407C7A19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70D9-3077-4323-BFD1-19B7C4502E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5E0C-2489-4781-951F-894A77DB92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CE0A-54AF-4AAF-BB2B-400E50AB99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6BF4-151E-4903-967F-E9849B1524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9F3-FCA2-4C3D-9C03-E9648789C0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7FDD-2EDB-4222-9A96-BDEAE50B1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4231-E29C-49C4-BE8C-0E42D5628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4687-4A69-4767-9177-4551A9CC4E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4635-8680-4B4F-A33B-0130C5DD0B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4511-99E1-4633-A849-F798A9BADF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496B-C2B8-4013-96D0-5C33470B8A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B20B-4188-4015-97D9-41D0B43131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B3AF-D760-46AF-9C23-F5B8FD496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902D-A91C-45BA-9876-9C416C1F49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66BE-6E07-46E3-BEA2-925929A3F0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4F18-5719-4F2E-A7F8-FD6A362842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9517-A64E-4219-9D22-43B3BA4FEC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A159-366B-473F-9887-73B04BA4DE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FEA5-DEAB-45AA-BD27-C7198E318D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CB96-BBDF-4A92-86EF-024280A74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D640-4487-4A63-B919-794B8ED35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947F-9FA9-4DC0-9788-219115DB69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E7E0-1DD5-4BB8-BA6E-08A998FDB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4EF3-4BB7-4E25-8CB6-E0B87ED71B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295-ED0E-477F-9F26-E2788647E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333440" y="2405160"/>
            <a:ext cx="64771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28600" y="852480"/>
            <a:ext cx="8686800" cy="5153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6659640" y="234936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643280" y="364500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050920" y="5560920"/>
            <a:ext cx="57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619200" y="2838600"/>
            <a:ext cx="7905600" cy="11808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6804000" y="3573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247680" y="831960"/>
            <a:ext cx="8648640" cy="58482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788508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788508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788508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5"/>
          <a:stretch/>
        </p:blipFill>
        <p:spPr>
          <a:xfrm>
            <a:off x="7885080" y="6165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390600" y="809640"/>
            <a:ext cx="8362800" cy="52387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1116000" y="479736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1116000" y="5445000"/>
            <a:ext cx="504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052640" y="1243080"/>
            <a:ext cx="7038720" cy="4371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547640" y="3789360"/>
            <a:ext cx="698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476360" y="4437000"/>
            <a:ext cx="698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1332000" y="5056200"/>
            <a:ext cx="698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458640" y="79200"/>
            <a:ext cx="8460000" cy="66996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30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187280" y="3213000"/>
            <a:ext cx="3024360" cy="1295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042920" y="469584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042920" y="551664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116000" y="6222960"/>
            <a:ext cx="68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28600" y="847800"/>
            <a:ext cx="8686800" cy="56386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00000" y="3514680"/>
            <a:ext cx="424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755640" y="5041800"/>
            <a:ext cx="424800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42920" y="406440"/>
            <a:ext cx="8858160" cy="6257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71640" y="146844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900000" y="2997360"/>
            <a:ext cx="37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900000" y="378936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826920" y="4508640"/>
            <a:ext cx="37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900000" y="530064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900000" y="6093000"/>
            <a:ext cx="61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0:1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